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dt" idx="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ftr" idx="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 type="sldNum" idx="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1197-2F77-4117-964F-6C66BF65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4B5-6CF3-46DA-8324-63A818365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14C-F08C-4D4C-940B-DD238BF9CC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80E1-9CCA-482B-8AB8-C7DBAE1EA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599-D5C8-49BE-8C7F-34A24274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420-932D-46F0-B695-B661635D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477BD4-A4C1-4A50-9D3A-2E57A97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E39A6-9BB2-406B-B5B5-29DD4A59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4BB33-A3C9-4D0C-AC31-83F3D35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5E288-6588-4A19-B6C7-2B06D95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3E9D0-B16B-4FC1-A991-5814673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41C16-4D43-4ACD-A1F0-C216A0D1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B2703-5B79-4793-B374-2A1636E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71FDA-C783-49D7-87AB-42F3F338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A2E77-39E6-499D-AA5A-08BD46A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62255-E290-4739-9DD3-B4D4DD3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AC8-1DD6-4810-B4FC-37440A19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CD0A1-577A-454D-8F99-EC556C0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225C1-56BB-4F70-A250-4552169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91A7F-18B8-44FF-8469-83CDB23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253B3-4466-4BB7-B4CB-1359336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852AC-B919-45C7-B2DB-1543671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22BB9-4977-4B67-B67E-9EBD6E74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3264B-B803-4607-ABBE-1AA4891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F7D39-B72D-490D-B0A0-050232D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1D676-CD34-4004-8B80-4D7F3BCC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18C33-801F-4042-A849-69351BC0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2B6-8D07-4E51-93AD-CF76F7A4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2AC44-BA8B-4178-B5E7-B9CA09CC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40A66-5233-47FC-A0E1-D2694402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94661-ACFA-42FB-85C5-2723E30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550DD-5A53-4B59-81C5-709226DC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A6ADD-5CD0-4E97-8F9F-DD26503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35CDA-BE59-4ADE-9351-8F1A35B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DD2A9-F340-4B8E-99A3-AE31650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F3ABB-7012-4237-88BB-7019D29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0325B-1F0A-497C-942F-894E5243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B9DED-5775-4986-B978-D2121357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98F-3E2B-443A-BA5F-5DCADEEE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8A982-4DAE-4480-9CFE-B65065E5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382E1-03C6-454F-A17C-573E66C3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179F4-0645-4E6D-8D35-C575D1E7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FC6D96-FCD9-4859-A4BA-70799447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A1465-CC99-4654-A9E0-BD6BCFE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4B3ADA-F352-495E-9D69-D8CF3954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D7BFA9-BDA1-43C0-8777-5E067534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6BBF46-4692-4FD1-BAA9-2174E524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8F3C95-91D2-42D9-AB09-A0108259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21C319-D432-4A27-B58C-0EA027D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7262-D09F-4159-BB8A-B23B885A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CD2F20-52B4-40A7-B355-05C08048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679C6A-D7CF-4E79-8CB8-9176B8C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7AE999-DF2F-4A1D-BB5D-E0CC0118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F2ADD-8CB9-412A-A58B-1E7EC233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FA7BF9-F2F7-425F-90BD-C57E438D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9F696-D25D-4C89-8E74-F16B2336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4D0EE-5934-48F4-8808-8A167E2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9FBD5-FF9E-4EC2-8E9D-7955093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637AF-AF8E-47B2-A930-BCF6FE2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2DD5E-5065-4FB4-A6D1-0D577F8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56B-E02B-4C2D-AE66-36ABA1B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2B808-B2B1-49B2-BC35-FC299C2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9B597-2656-4A8F-B227-56F1B16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D1004-0A32-47C3-B35F-435E742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7FF32-2FE3-46DA-B775-D866E94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C46BE-AA74-4282-87C2-298F0367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8A52B-CA60-45DE-BB00-051A7FC2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822A3-F6D9-447C-81AE-96F53A4C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B5A6A1-D688-42D7-9620-DD6D880F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9A0314-8E05-481F-8A58-206F94D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9D5A67-3B19-4E51-AD37-A06EE72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59EA-7911-44BA-97A7-8C139553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BCCAF4-4668-41DF-8119-4AE8645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A7BD18-5499-4A15-B68F-E733B616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FE8B61-A277-4D7F-9FF5-48392FB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B262F7-3E49-4682-B68F-6DD83EE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8017E3-2CE8-4055-9AA4-AF18AB3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602545-66D1-491F-AB9D-1B95436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38AA57-33E8-44BB-ABF6-59F5FF8E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482447-7A14-49F7-AA80-1945BA72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F3102E-6EDF-452F-A388-0C1AD5D6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11CF-B4B4-4AC3-BEC5-AE9B9F8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3D1-7AAB-419C-AD12-17567D8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8FDE-BA28-44B0-A717-FBDA489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C5E-2541-4DC6-9795-CF698D2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CC6-3352-4C44-8CCB-7A0E505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4C39-D798-4C32-AFC7-8400957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4EDC-C2FC-46BD-82F4-D84D358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FB2-FAA3-4EC8-B2BD-665DABB7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5488-3F06-492B-AE87-546B88E2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84C-4900-4749-84D7-4F0585F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D77-820B-48BC-8568-CDF88755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F17E3-C1F3-4025-A9CE-1DCB94FE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202-ABEC-424F-8451-A1F31E4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9004F-5A97-4BDE-BB02-49167C8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40A48C-F04A-447E-AA4C-F4A1B85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3A34C-1D3F-4257-88C7-768CA9A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F1A86-F781-4841-A60D-D16C1EB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8854E-11BE-4C10-BE03-8A6C1DBC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D24A5-1C1B-4EED-AD50-3BF5FB82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78A40-5080-451E-8AB4-27BFB5F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0829F-54D9-4A1D-9E42-86A0EC4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EF9AE-B733-494D-A758-53454BA7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C8F3A-4FD5-472F-A6CC-D3DF8605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8FE-03F3-4173-8839-0E2F5D66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0A8F3-1E72-4F39-95C2-46428E29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A889E-657C-4389-A1F8-BC979656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9ACBA-E38F-4F72-9982-3D1F46A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835FC4-9FA4-4EA9-8E6C-5256408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39FF6-50FA-4101-A615-80096911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9C0B0-CFCD-4134-A3B2-6F29E95C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C1D0BF-23DA-43EF-A7E4-B558A9E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37A6B-5329-4A07-8682-B38C3EA5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94E7F-66CA-4670-9DED-786E05C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8AF13C-0676-4E02-A671-8C97606F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1D7-B389-4332-ACA3-7F5E774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C6C3D-A72A-488B-8C0A-4DD1036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2CAC69-29F8-4D48-8806-3FC5BE0B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B0A5D-39CA-4CC0-937C-870A76A4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3D1CB-B772-4D17-B363-2B0BFCE5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BB68B-7E9F-4805-8724-40BC7307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1FFD3-B606-4EC4-B6C0-4F1ECCE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16217-F2C1-40E5-A262-5D5AC168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CE724-EF41-464C-A5AB-509FC76A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08B92-C2F1-49DB-A533-2365ABE4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1FD02-B5A6-4712-AB46-DE7CC20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976-FB0F-4839-8AF4-7C85E33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62DB9-2CA9-4F44-AEDF-D557DE0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7CD7B7-F500-4D6B-8905-DB8D16B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78DCE-DFAA-4757-BB56-54979C9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1F8C2-B53B-49DB-8DAA-230B2C3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E4C80-AA2E-42F3-9B48-2EAE29C2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E37C21-94B2-4D1A-88A4-EA9D26B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5E1E0-1AE9-415A-B345-2BCCA2C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FFE7D4-886B-438C-AEED-8B31FC1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553C0-99D4-4470-8DE1-D171834C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3F7D7-051F-4EE0-A858-6C922303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061-B4F8-48E1-AF29-8862ECA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68A1E-77E7-49D8-8CDD-B4C0FD3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CE164A-9C08-4492-A53B-1AABCB2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14EBB-1067-413C-A109-828D195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2FD1A-A72F-48A3-84B1-1505A4E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CC133-4FA5-4FEC-83F2-C24D196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02DE1-CE8E-4A5E-98CD-358D9A7F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3FB7BA-8BB9-47DB-AA31-CF3DD789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8A8E4-37B1-4061-A5B4-CB88BB5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F23B6-79C2-43CE-A861-8971255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49E60-8058-47D1-AAFD-17770DA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F6E-4DC2-4811-B509-D54790CCA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204-2634-4B05-A332-C74055F28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2DB-C53C-4C75-BB46-7DACFE68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F22F-EDFE-4891-B45C-E25C56ADC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D659-8925-41DE-BE47-664B6306E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D09-6868-4042-9532-3A6FF4D8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C7B-FCE6-4951-8728-1A7165A81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4AA7-3AB2-4B43-AD83-5327764C9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B58-777D-4422-B294-4644594C4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C23-2697-45AE-8BA8-42DFCBE0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A5B2-7484-4FAB-AD7B-11566BD2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0A2-A9F2-43A5-875C-02B99317E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Rectangle 2"/>
          <p:cNvGrpSpPr/>
          <p:nvPr/>
        </p:nvGrpSpPr>
        <p:grpSpPr>
          <a:xfrm>
            <a:off x="255600" y="285840"/>
            <a:ext cx="8553600" cy="1218960"/>
            <a:chOff x="255600" y="285840"/>
            <a:chExt cx="8553600" cy="1218960"/>
          </a:xfrm>
        </p:grpSpPr>
        <p:pic>
          <p:nvPicPr>
            <p:cNvPr id="1054" name="Rectangle 2" descr=""/>
            <p:cNvPicPr/>
            <p:nvPr/>
          </p:nvPicPr>
          <p:blipFill>
            <a:blip r:embed="rId1"/>
            <a:stretch/>
          </p:blipFill>
          <p:spPr>
            <a:xfrm>
              <a:off x="255600" y="285840"/>
              <a:ext cx="85536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380880" y="533520"/>
              <a:ext cx="8305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Arial"/>
                </a:rPr>
                <a:t>Anterior Pituitary Gland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2" descr="https://s-media-cache-ak0.pinimg.com/736x/ed/60/0a/ed600a12c91578e82dc02f5eb2a63171.jpg"/>
          <p:cNvPicPr/>
          <p:nvPr/>
        </p:nvPicPr>
        <p:blipFill>
          <a:blip r:embed="rId2"/>
          <a:srcRect l="45833" t="6589" r="2501" b="5559"/>
          <a:stretch/>
        </p:blipFill>
        <p:spPr>
          <a:xfrm>
            <a:off x="685800" y="1676520"/>
            <a:ext cx="77724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rcRect l="2676" t="0" r="1787" b="0"/>
          <a:stretch/>
        </p:blipFill>
        <p:spPr>
          <a:xfrm>
            <a:off x="1219320" y="304920"/>
            <a:ext cx="67053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3" descr="18f06"/>
          <p:cNvPicPr/>
          <p:nvPr/>
        </p:nvPicPr>
        <p:blipFill>
          <a:blip r:embed="rId1"/>
          <a:srcRect l="0" t="14689" r="0" b="0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0" name="Rectangle 2"/>
          <p:cNvGrpSpPr/>
          <p:nvPr/>
        </p:nvGrpSpPr>
        <p:grpSpPr>
          <a:xfrm>
            <a:off x="92160" y="42840"/>
            <a:ext cx="3425760" cy="1157400"/>
            <a:chOff x="92160" y="42840"/>
            <a:chExt cx="3425760" cy="1157400"/>
          </a:xfrm>
        </p:grpSpPr>
        <p:pic>
          <p:nvPicPr>
            <p:cNvPr id="1081" name="Rectangle 2" descr=""/>
            <p:cNvPicPr/>
            <p:nvPr/>
          </p:nvPicPr>
          <p:blipFill>
            <a:blip r:embed="rId2"/>
            <a:stretch/>
          </p:blipFill>
          <p:spPr>
            <a:xfrm>
              <a:off x="92160" y="42840"/>
              <a:ext cx="3425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228600" y="228600"/>
              <a:ext cx="3048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Anterior Pituitary Hormon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terior pituitary horm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1" descr="antpituitary"/>
          <p:cNvPicPr/>
          <p:nvPr/>
        </p:nvPicPr>
        <p:blipFill>
          <a:blip r:embed="rId1"/>
          <a:srcRect l="1927" t="4640" r="-163" b="18806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yroid Stimulating Hormone (TSH) = Thyrotro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228600" y="7617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development of thyroid structure and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formation and secretion of thyrox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- Feedback mechanis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x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tropin releasing factor (=TRF)   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x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RF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- Neur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TRF is stimulated mainly by neural reflex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DRENOCORTICOTROPIC HORMONE (ACTH) = Corticotro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600" y="76212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drenal cortex (excep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ona glomerulo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drenocortical hormones (excep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anocyte stimul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obilizing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Feedback mech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ticotropin releasing factor (CRF) &amp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F &amp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- Neu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itement, pain and fe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o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hemorrhage stimulate anterior pituitar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NADOTRO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380880" y="1219320"/>
          <a:ext cx="8382240" cy="5014800"/>
        </p:xfrm>
        <a:graphic>
          <a:graphicData uri="http://schemas.openxmlformats.org/drawingml/2006/table">
            <a:tbl>
              <a:tblPr/>
              <a:tblGrid>
                <a:gridCol w="1295640"/>
                <a:gridCol w="3276360"/>
                <a:gridCol w="3810240"/>
              </a:tblGrid>
              <a:tr h="94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ollicl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timulating Hormone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Luteinizing Hormone (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mulates growth &amp; maturation of Graffian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llicl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f estro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ovulation and formation of corpu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teum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ecretion of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ogesteron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from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rmatogene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rtoli cell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tro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interstitial cells of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ydig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testostero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106632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 that was originally named for its ability to promo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the suckling stimulus of hungry young mammal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ts genetic, structural, binding and functional properties, prolactin belong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lactin/growth hormone/placental lactogen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ure human prolactin is compose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ROL OF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5331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Hypothalamic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lactin Inhibiting Factor (predominant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p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GA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lactin Releasing Factor (PRF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rotrophin releasing F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RF)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hyrox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lactin v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F secretion (by -ve feedback mech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strog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lactin secretion v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F receptors on lactotrophs.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s of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volved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 of lactogenesis, prolactin stimulates uptake of some amino acids, the synthesis of the milk proteins casein and α-lactalbumin, uptake of glucose, and synthesis of the milk sugar lactose as well as milk f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actin stimul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lready formed mammary gland and prepared by estrogen and progesterone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pregnancy, prolactin stimulates Brea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th with no lactation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colostrum is produced. As estrogen and progesterone (secreted from placent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 prolactin action at receptor sites in alveolar cells. ↓ Estrogen &amp; progesterone after deliv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tion of milk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ther functions of prolact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volved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nad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an important role in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ern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685800" y="2895480"/>
            <a:ext cx="7543800" cy="3657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.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lactin secretion i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uous exercise (exercise amenorrhea in 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kling,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s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2"/>
          <p:cNvGrpSpPr/>
          <p:nvPr/>
        </p:nvGrpSpPr>
        <p:grpSpPr>
          <a:xfrm>
            <a:off x="1474920" y="-23760"/>
            <a:ext cx="6346800" cy="998640"/>
            <a:chOff x="1474920" y="-23760"/>
            <a:chExt cx="6346800" cy="998640"/>
          </a:xfrm>
        </p:grpSpPr>
        <p:pic>
          <p:nvPicPr>
            <p:cNvPr id="1058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-23760"/>
              <a:ext cx="63468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1600200" y="152280"/>
              <a:ext cx="6095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the major integrative site for the neuroendocrin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scribe the general characteristics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ic releasing and inhibiting hormo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 describe their route of transport from the hypothalamus to the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fy appropriate hypothalamic hormones that control the secretion of each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n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ram short-loop and long-loop negati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eedback contr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 anterior pituitary hormone se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YPERPROLACTINA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8600" y="685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-Hypothalamic Dopamine deficiency du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ypothalamic Dopamin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s e.g. Alpha methyldopa (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ral dopamine sto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- Defective Dopamine transpor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pituitary tum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- Lactotroph insensitivity to Dopam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mine receptor blockers as Phenothiaz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- Galactorrhoea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80% of Females &amp; 30% of Male (due to inhibitory effect of androge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- Hypogonadism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enstrual abnormalities (in Female),  impotence (In Male) &amp; infertility in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609480" y="5715000"/>
            <a:ext cx="7925040" cy="99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ogonadism in hyperprolactinaemia may be du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 Suppression of pituit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nadotrophi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 Blockade of recepto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nadotroph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gonad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457200" y="1877400"/>
            <a:ext cx="8305920" cy="36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Hypothalamus 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Pituitary stimulation from hypothalamic trophic hormon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Endocrine gland stimulation from pituitary trophic hormon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</p:txBody>
      </p:sp>
      <p:grpSp>
        <p:nvGrpSpPr>
          <p:cNvPr id="1104" name="Rectangle 3"/>
          <p:cNvGrpSpPr/>
          <p:nvPr/>
        </p:nvGrpSpPr>
        <p:grpSpPr>
          <a:xfrm>
            <a:off x="66600" y="-30240"/>
            <a:ext cx="9016920" cy="1687680"/>
            <a:chOff x="66600" y="-30240"/>
            <a:chExt cx="9016920" cy="1687680"/>
          </a:xfrm>
        </p:grpSpPr>
        <p:pic>
          <p:nvPicPr>
            <p:cNvPr id="1105" name="Rectangle 3" descr=""/>
            <p:cNvPicPr/>
            <p:nvPr/>
          </p:nvPicPr>
          <p:blipFill>
            <a:blip r:embed="rId1"/>
            <a:stretch/>
          </p:blipFill>
          <p:spPr>
            <a:xfrm>
              <a:off x="66600" y="-30240"/>
              <a:ext cx="90169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196920" y="163440"/>
              <a:ext cx="876276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Endocrine Control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Three Levels of Integr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Rectangle 2"/>
          <p:cNvGrpSpPr/>
          <p:nvPr/>
        </p:nvGrpSpPr>
        <p:grpSpPr>
          <a:xfrm>
            <a:off x="66600" y="-219240"/>
            <a:ext cx="9016920" cy="1571760"/>
            <a:chOff x="66600" y="-219240"/>
            <a:chExt cx="9016920" cy="1571760"/>
          </a:xfrm>
        </p:grpSpPr>
        <p:pic>
          <p:nvPicPr>
            <p:cNvPr id="1108" name="Rectangle 2" descr=""/>
            <p:cNvPicPr/>
            <p:nvPr/>
          </p:nvPicPr>
          <p:blipFill>
            <a:blip r:embed="rId1"/>
            <a:stretch/>
          </p:blipFill>
          <p:spPr>
            <a:xfrm>
              <a:off x="66600" y="-219240"/>
              <a:ext cx="90169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196920" y="87480"/>
              <a:ext cx="876276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Hormones of hypothalamic-anterior pituitary pathwa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0" name="Picture 4" descr=""/>
          <p:cNvPicPr/>
          <p:nvPr/>
        </p:nvPicPr>
        <p:blipFill>
          <a:blip r:embed="rId2"/>
          <a:srcRect l="7640" t="669" r="7805" b="3073"/>
          <a:stretch/>
        </p:blipFill>
        <p:spPr>
          <a:xfrm>
            <a:off x="152280" y="121932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Rectangle 2"/>
          <p:cNvGrpSpPr/>
          <p:nvPr/>
        </p:nvGrpSpPr>
        <p:grpSpPr>
          <a:xfrm>
            <a:off x="73080" y="122400"/>
            <a:ext cx="9010440" cy="1157040"/>
            <a:chOff x="73080" y="122400"/>
            <a:chExt cx="9010440" cy="1157040"/>
          </a:xfrm>
        </p:grpSpPr>
        <p:pic>
          <p:nvPicPr>
            <p:cNvPr id="1112" name="Rectangle 2" descr=""/>
            <p:cNvPicPr/>
            <p:nvPr/>
          </p:nvPicPr>
          <p:blipFill>
            <a:blip r:embed="rId1"/>
            <a:stretch/>
          </p:blipFill>
          <p:spPr>
            <a:xfrm>
              <a:off x="73080" y="122400"/>
              <a:ext cx="901044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200160" y="404640"/>
              <a:ext cx="876276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Negative Feedback Loop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228600" y="1198800"/>
            <a:ext cx="8610480" cy="57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Regulate amount of hormones in blood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Hormone levels stay within range needed for appropriate responses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Eliminates waste of hormones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33"/>
                </a:solidFill>
                <a:uFillTx/>
                <a:latin typeface="Georgia"/>
              </a:rPr>
              <a:t>A) long loop –ve feedback: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33"/>
                </a:solidFill>
                <a:uFillTx/>
                <a:latin typeface="Georgia"/>
              </a:rPr>
              <a:t>1) Direct -ve feedback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Anterior pituitary hormones </a:t>
            </a:r>
            <a:r>
              <a:rPr b="0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 stimulate target gland 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(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TSH 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Thyroxin)</a:t>
            </a: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E.g. ↓ Thyroxin </a:t>
            </a:r>
            <a:r>
              <a:rPr b="1" i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↑ TSH from Ant. pituitary         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             ↑ 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Thyroxin </a:t>
            </a:r>
            <a:r>
              <a:rPr b="1" i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↓ TSH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04920" y="438480"/>
            <a:ext cx="8534160" cy="59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33"/>
                </a:solidFill>
                <a:uFillTx/>
                <a:latin typeface="Georgia"/>
              </a:rPr>
              <a:t>2) Indirect -ve feedback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When hypothalamus is indirectly involved in regulation of hormone secretion from target gland via releasing or inhibitory factors  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{TRF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TSH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Thyroxin}.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E.g. ↑ Thyroxin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↓ TRF.            ↓ Thyroxin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↑ TRF.             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33"/>
                </a:solidFill>
                <a:uFillTx/>
                <a:latin typeface="Georgia"/>
              </a:rPr>
              <a:t>B) Short loop -ve Feedback:</a:t>
            </a:r>
            <a:r>
              <a:rPr b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Some anterior pituitary hormones e.g. Somatotropin (= GH)</a:t>
            </a:r>
            <a:r>
              <a:rPr b="0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can regulate its own release by a short loop -ve feedback on the secretion of its hypothalamic releasing or inhibitory factors.</a:t>
            </a:r>
            <a:r>
              <a:rPr b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E.g.</a:t>
            </a:r>
            <a:r>
              <a:rPr b="0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Somatotropin and Somatotropin RF or Somatostatin.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9800" y="436680"/>
            <a:ext cx="87627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Feedback Loop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7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1" descr="18t2a"/>
          <p:cNvPicPr/>
          <p:nvPr/>
        </p:nvPicPr>
        <p:blipFill>
          <a:blip r:embed="rId1"/>
          <a:srcRect l="0" t="0" r="0" b="247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1" descr="18t2b"/>
          <p:cNvPicPr/>
          <p:nvPr/>
        </p:nvPicPr>
        <p:blipFill>
          <a:blip r:embed="rId1"/>
          <a:srcRect l="0" t="8575" r="15850" b="86738"/>
          <a:stretch/>
        </p:blipFill>
        <p:spPr>
          <a:xfrm>
            <a:off x="304920" y="762120"/>
            <a:ext cx="8534160" cy="457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1" descr="18t2a"/>
          <p:cNvPicPr/>
          <p:nvPr/>
        </p:nvPicPr>
        <p:blipFill>
          <a:blip r:embed="rId2"/>
          <a:srcRect l="47129" t="89047" r="0" b="413"/>
          <a:stretch/>
        </p:blipFill>
        <p:spPr>
          <a:xfrm>
            <a:off x="4191120" y="365760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1" descr="18t2b"/>
          <p:cNvPicPr/>
          <p:nvPr/>
        </p:nvPicPr>
        <p:blipFill>
          <a:blip r:embed="rId3"/>
          <a:srcRect l="18328" t="13476" r="13601" b="84082"/>
          <a:stretch/>
        </p:blipFill>
        <p:spPr>
          <a:xfrm>
            <a:off x="1905120" y="3048120"/>
            <a:ext cx="6629400" cy="311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1" descr="18t2b"/>
          <p:cNvPicPr/>
          <p:nvPr/>
        </p:nvPicPr>
        <p:blipFill>
          <a:blip r:embed="rId4"/>
          <a:srcRect l="12959" t="19598" r="13601" b="75518"/>
          <a:stretch/>
        </p:blipFill>
        <p:spPr>
          <a:xfrm>
            <a:off x="1752480" y="5334120"/>
            <a:ext cx="6858000" cy="6858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1" descr="18t2b"/>
          <p:cNvPicPr/>
          <p:nvPr/>
        </p:nvPicPr>
        <p:blipFill>
          <a:blip r:embed="rId5"/>
          <a:srcRect l="40804" t="15924" r="13601" b="80407"/>
          <a:stretch/>
        </p:blipFill>
        <p:spPr>
          <a:xfrm>
            <a:off x="4191120" y="3352680"/>
            <a:ext cx="4343400" cy="381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1" descr="18t2a"/>
          <p:cNvPicPr/>
          <p:nvPr/>
        </p:nvPicPr>
        <p:blipFill>
          <a:blip r:embed="rId6"/>
          <a:srcRect l="21930" t="75264" r="0" b="10958"/>
          <a:stretch/>
        </p:blipFill>
        <p:spPr>
          <a:xfrm>
            <a:off x="1905120" y="1371600"/>
            <a:ext cx="6553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1" descr="18t2b"/>
          <p:cNvPicPr/>
          <p:nvPr/>
        </p:nvPicPr>
        <p:blipFill>
          <a:blip r:embed="rId7"/>
          <a:srcRect l="0" t="13476" r="84294" b="84030"/>
          <a:stretch/>
        </p:blipFill>
        <p:spPr>
          <a:xfrm>
            <a:off x="380880" y="129528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https://scontent-ams3-1.xx.fbcdn.net/hphotos-xft1/v/t1.0-9/12189059_1768636816697771_6337310308223483586_n.jpg?oh=a81026d5bd1ce3566ef9d813d5530942&amp;oe=56ADE0FA"/>
          <p:cNvPicPr/>
          <p:nvPr/>
        </p:nvPicPr>
        <p:blipFill>
          <a:blip r:embed="rId1"/>
          <a:stretch/>
        </p:blipFill>
        <p:spPr>
          <a:xfrm>
            <a:off x="762120" y="228600"/>
            <a:ext cx="7315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1"/>
          <p:cNvSpPr/>
          <p:nvPr/>
        </p:nvSpPr>
        <p:spPr>
          <a:xfrm>
            <a:off x="457200" y="5562720"/>
            <a:ext cx="8381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طريق الخير صعوبته في سلوكه، وطريق الشر صعوبته في عاقبته، فاللهم أعنّا على الخير، وعافنا من الش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‫#‏صالح_المغامس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4" descr="https://fbcdn-sphotos-f-a.akamaihd.net/hphotos-ak-xtf1/v/t1.0-9/12046676_868370936610669_1267467930689380016_n.jpg?oh=94e89ae020e427f5a8f8332d0d7f647c&amp;oe=56B95C56&amp;__gda__=1454128397_c40a64c7a6d975d186eebe03eb6f303d"/>
          <p:cNvPicPr/>
          <p:nvPr/>
        </p:nvPicPr>
        <p:blipFill>
          <a:blip r:embed="rId1"/>
          <a:srcRect l="0" t="8839" r="0" b="11996"/>
          <a:stretch/>
        </p:blipFill>
        <p:spPr>
          <a:xfrm>
            <a:off x="457200" y="22860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I. Anterior pituitary (=Adenohypophysi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0520" y="99036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hromophob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50% of cells) = precursor cel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cidophils (alpha cells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40% of cells) &amp; secrete: Growth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G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&amp; Prolacti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PRL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Basophils (Beta cells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10% of cells) &amp; secret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yriod stimulat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TS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Thyrotrop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renocorticotrophic H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ACT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Corticotrop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llicle stimulat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FS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uteiniz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L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Rectangle 2"/>
          <p:cNvGrpSpPr/>
          <p:nvPr/>
        </p:nvGrpSpPr>
        <p:grpSpPr>
          <a:xfrm>
            <a:off x="785880" y="6480"/>
            <a:ext cx="7797600" cy="1193760"/>
            <a:chOff x="785880" y="6480"/>
            <a:chExt cx="7797600" cy="1193760"/>
          </a:xfrm>
        </p:grpSpPr>
        <p:pic>
          <p:nvPicPr>
            <p:cNvPr id="1064" name="Rectangle 2" descr=""/>
            <p:cNvPicPr/>
            <p:nvPr/>
          </p:nvPicPr>
          <p:blipFill>
            <a:blip r:embed="rId1"/>
            <a:stretch/>
          </p:blipFill>
          <p:spPr>
            <a:xfrm>
              <a:off x="785880" y="6480"/>
              <a:ext cx="77976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914400" y="228600"/>
              <a:ext cx="7543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nterior Pituitary hormon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10280" cy="48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wth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G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lact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PRL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yroi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T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llicl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F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teiniz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L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en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tic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pic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ACT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</p:txBody>
      </p:sp>
      <p:pic>
        <p:nvPicPr>
          <p:cNvPr id="1067" name="Picture 7" descr="https://bohone09.wikispaces.com/file/view/Pituitary_gland_ant_%26_post.gif/84150015/433x284/Pituitary_gland_ant_%26_post.gif"/>
          <p:cNvPicPr/>
          <p:nvPr/>
        </p:nvPicPr>
        <p:blipFill>
          <a:blip r:embed="rId2"/>
          <a:srcRect l="0" t="8001" r="0" b="0"/>
          <a:stretch/>
        </p:blipFill>
        <p:spPr>
          <a:xfrm>
            <a:off x="6019920" y="114300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http://www.medicalook.com/systems_images/Pituitary_Hormones_large.jpg"/>
          <p:cNvPicPr/>
          <p:nvPr/>
        </p:nvPicPr>
        <p:blipFill>
          <a:blip r:embed="rId1"/>
          <a:srcRect l="0" t="2298" r="0" b="0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95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ypothalamo - Hypophyseal portal system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ion between hypothalamus &amp;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alamus secretes polypeptide hormon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= hypothalamic releasing or inhibiting factor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orbed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halamic-hypophyseal portal capill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carried to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understand the hypothalamic-hypophyseal portal system."/>
          <p:cNvPicPr/>
          <p:nvPr/>
        </p:nvPicPr>
        <p:blipFill>
          <a:blip r:embed="rId1"/>
          <a:srcRect l="4655" t="0" r="13888" b="3615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3"/>
          <p:cNvSpPr/>
          <p:nvPr/>
        </p:nvSpPr>
        <p:spPr>
          <a:xfrm>
            <a:off x="457200" y="48006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ypothalamic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hypophy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or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Rectangle 2"/>
          <p:cNvGrpSpPr/>
          <p:nvPr/>
        </p:nvGrpSpPr>
        <p:grpSpPr>
          <a:xfrm>
            <a:off x="23760" y="-36360"/>
            <a:ext cx="9016920" cy="1236600"/>
            <a:chOff x="23760" y="-36360"/>
            <a:chExt cx="9016920" cy="1236600"/>
          </a:xfrm>
        </p:grpSpPr>
        <p:pic>
          <p:nvPicPr>
            <p:cNvPr id="1074" name="Rectangle 2" descr=""/>
            <p:cNvPicPr/>
            <p:nvPr/>
          </p:nvPicPr>
          <p:blipFill>
            <a:blip r:embed="rId1"/>
            <a:stretch/>
          </p:blipFill>
          <p:spPr>
            <a:xfrm>
              <a:off x="23760" y="-36360"/>
              <a:ext cx="90169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52280" y="152280"/>
              <a:ext cx="8763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scular Link Between the Hypothalamus and Anterior Pituit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6" name="Picture 3" descr="18f08"/>
          <p:cNvPicPr/>
          <p:nvPr/>
        </p:nvPicPr>
        <p:blipFill>
          <a:blip r:embed="rId2"/>
          <a:stretch/>
        </p:blipFill>
        <p:spPr>
          <a:xfrm>
            <a:off x="115920" y="10666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4" descr="18t4"/>
          <p:cNvPicPr/>
          <p:nvPr/>
        </p:nvPicPr>
        <p:blipFill>
          <a:blip r:embed="rId1"/>
          <a:srcRect l="0" t="2702" r="0" b="2778"/>
          <a:stretch/>
        </p:blipFill>
        <p:spPr>
          <a:xfrm>
            <a:off x="1523880" y="457200"/>
            <a:ext cx="624852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Dell</cp:lastModifiedBy>
  <dcterms:modified xsi:type="dcterms:W3CDTF">2015-12-14T07:33:40Z</dcterms:modified>
  <cp:revision>127</cp:revision>
  <dc:subject/>
  <dc:title>Slide 1</dc:title>
</cp:coreProperties>
</file>